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464B-C9CA-45AD-AC6C-8AAE14D0B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0149-9800-45AC-89D0-C8D41186F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BED2-F10D-4A8C-9C87-4CCD0230F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EA0F-B89C-4F85-9064-89C85214E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8C93-16E0-4FE8-A1F2-7BB4A094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A053-71C5-40F5-A9A6-70ACF7AB6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03BA-FA67-4757-91C4-5DD152FB7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313F-B478-45A9-95E8-272338DB6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F80A-BB6C-489B-BC27-F92F6EB8A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63DE-2291-405B-9D92-79F50F7F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E65D-B72D-4F41-9BCB-A1356FCE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BBD8-1E96-4CEC-9E96-4C170307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3767-95B9-40D3-9472-0787AF00FC54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Arial"/>
              </a:rPr>
              <a:t>L’effetto ser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io Russo Krau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Resp. Settore Educazione Sanitaria ed Ambientale ASL Napoli 1 Cen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ss. Marco Mascagna on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Rete Lilliput Napo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353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ff"/>
                </a:solidFill>
                <a:latin typeface="Arial"/>
              </a:rPr>
              <a:t>Principali fonti di emissione (%)     </a:t>
            </a:r>
            <a:r>
              <a:rPr b="1" lang="it-IT" sz="2000" spc="-1" strike="noStrike">
                <a:solidFill>
                  <a:srgbClr val="3333ff"/>
                </a:solidFill>
                <a:latin typeface="Arial"/>
              </a:rPr>
              <a:t>fonte AN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24000" y="1557360"/>
          <a:ext cx="8496000" cy="4937040"/>
        </p:xfrm>
        <a:graphic>
          <a:graphicData uri="http://schemas.openxmlformats.org/drawingml/2006/table">
            <a:tbl>
              <a:tblPr/>
              <a:tblGrid>
                <a:gridCol w="2447640"/>
                <a:gridCol w="1071720"/>
                <a:gridCol w="996840"/>
                <a:gridCol w="917640"/>
                <a:gridCol w="843120"/>
                <a:gridCol w="1006200"/>
                <a:gridCol w="1212840"/>
              </a:tblGrid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fonti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PM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NO</a:t>
                      </a:r>
                      <a:r>
                        <a:rPr b="1" lang="de-DE" sz="2600" spc="-1" strike="noStrike" baseline="-25000">
                          <a:solidFill>
                            <a:srgbClr val="0000cc"/>
                          </a:solidFill>
                          <a:latin typeface="Arial"/>
                        </a:rPr>
                        <a:t>X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SO</a:t>
                      </a:r>
                      <a:r>
                        <a:rPr b="1" lang="de-DE" sz="2600" spc="-1" strike="noStrike" baseline="-25000">
                          <a:solidFill>
                            <a:srgbClr val="0000cc"/>
                          </a:solidFill>
                          <a:latin typeface="Arial"/>
                        </a:rPr>
                        <a:t>X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C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CO</a:t>
                      </a:r>
                      <a:r>
                        <a:rPr b="1" lang="de-DE" sz="2600" spc="-1" strike="noStrike" baseline="-25000">
                          <a:solidFill>
                            <a:srgbClr val="0000cc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CON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trasporti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3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5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7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2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7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altri trasporti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centrali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6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3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industri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2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2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2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riscaldament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96472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Arial"/>
              </a:rPr>
              <a:t>In 10 anni il parco autovetture è aumentato del 20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Arial"/>
              </a:rPr>
              <a:t>In Italia circolano 35 milioni di autovetture, 4 milioni di autocarri, 9 milioni di motocicli. Un veicolo ogni 1,2 abitant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Arial"/>
              </a:rPr>
              <a:t>L’Italia è al 1° posto nel mondo per auto/Km</a:t>
            </a:r>
            <a:r>
              <a:rPr b="1" lang="it-IT" sz="26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Arial"/>
              </a:rPr>
              <a:t>A Napoli 5.241 auto/km</a:t>
            </a:r>
            <a:r>
              <a:rPr b="1" lang="it-IT" sz="26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4360" y="4292640"/>
          <a:ext cx="7697160" cy="1882800"/>
        </p:xfrm>
        <a:graphic>
          <a:graphicData uri="http://schemas.openxmlformats.org/drawingml/2006/table">
            <a:tbl>
              <a:tblPr/>
              <a:tblGrid>
                <a:gridCol w="3848400"/>
                <a:gridCol w="3848760"/>
              </a:tblGrid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Lond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5.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Mona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3.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Ro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179280" y="3141720"/>
            <a:ext cx="8964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ff"/>
                </a:solidFill>
                <a:latin typeface="Times New Roman"/>
              </a:rPr>
              <a:t>Offerta di trasporto pubblico                                               </a:t>
            </a:r>
            <a:r>
              <a:rPr b="1" lang="it-IT" sz="2400" spc="-1" strike="noStrike">
                <a:solidFill>
                  <a:srgbClr val="3333ff"/>
                </a:solidFill>
                <a:latin typeface="Times New Roman"/>
              </a:rPr>
              <a:t>(milioni di postiKm per anno/km</a:t>
            </a:r>
            <a:r>
              <a:rPr b="1" lang="it-IT" sz="2400" spc="-1" strike="noStrike" baseline="30000">
                <a:solidFill>
                  <a:srgbClr val="3333ff"/>
                </a:solidFill>
                <a:latin typeface="Times New Roman"/>
              </a:rPr>
              <a:t>2 </a:t>
            </a:r>
            <a:r>
              <a:rPr b="1" lang="it-IT" sz="2400" spc="-1" strike="noStrike">
                <a:solidFill>
                  <a:srgbClr val="3333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La produzione di energia da fonti rinnovabil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1700280"/>
            <a:ext cx="8893080" cy="50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0000"/>
                </a:solidFill>
                <a:latin typeface="Arial"/>
              </a:rPr>
              <a:t>Metri quadri di scaldaacqua solari per 1000 abitanti: Austria 297, Grecia 264, Germania 75, Olanda 31, Francia 13, Spagna 11, </a:t>
            </a:r>
            <a:r>
              <a:rPr b="1" lang="it-IT" sz="2500" spc="-1" strike="noStrike">
                <a:solidFill>
                  <a:srgbClr val="ff0000"/>
                </a:solidFill>
                <a:latin typeface="Arial"/>
              </a:rPr>
              <a:t>Italia 8</a:t>
            </a:r>
            <a:r>
              <a:rPr b="1" lang="it-IT" sz="2500" spc="-1" strike="noStrike">
                <a:solidFill>
                  <a:srgbClr val="000000"/>
                </a:solidFill>
                <a:latin typeface="Arial"/>
              </a:rPr>
              <a:t>, Regno Unito 3 (EurObserv'ER, Solar Thermal Energy Barometer 2005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0000"/>
                </a:solidFill>
                <a:latin typeface="Arial"/>
              </a:rPr>
              <a:t>Watt prodotti dal solare fotovoltaico per abitante (Wc/abitante) nel 2004: Germania 9,6; Olanda 2,9; Austria 2,4;  Spagna 0,9; </a:t>
            </a:r>
            <a:r>
              <a:rPr b="1" lang="it-IT" sz="2500" spc="-1" strike="noStrike">
                <a:solidFill>
                  <a:srgbClr val="ff0000"/>
                </a:solidFill>
                <a:latin typeface="Arial"/>
              </a:rPr>
              <a:t>Italia 0,5</a:t>
            </a:r>
            <a:r>
              <a:rPr b="1" lang="it-IT" sz="2500" spc="-1" strike="noStrike">
                <a:solidFill>
                  <a:srgbClr val="000000"/>
                </a:solidFill>
                <a:latin typeface="Arial"/>
              </a:rPr>
              <a:t>; Grecia 0,4; Francia 0,3; Regno Unito 0,1 (Photovoltaic Energy Barometer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0000"/>
                </a:solidFill>
                <a:latin typeface="Arial"/>
              </a:rPr>
              <a:t>energia elettrica d’origine eolica in diversi paesi nel 2003 (MWatt): Germania 14.609, Spagna 6.202, Danimarca 3.110, </a:t>
            </a:r>
            <a:r>
              <a:rPr b="1" lang="it-IT" sz="2500" spc="-1" strike="noStrike">
                <a:solidFill>
                  <a:srgbClr val="ff0000"/>
                </a:solidFill>
                <a:latin typeface="Arial"/>
              </a:rPr>
              <a:t>Italia 904</a:t>
            </a:r>
            <a:r>
              <a:rPr b="1" lang="it-IT" sz="2500" spc="-1" strike="noStrike">
                <a:solidFill>
                  <a:srgbClr val="000000"/>
                </a:solidFill>
                <a:latin typeface="Arial"/>
              </a:rPr>
              <a:t>, Olanda 873, Gran Bretagna 649, Austria 414, Grecia 375, Francia 239 (EWEA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spcAft>
                <a:spcPts val="10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it-IT" sz="3300" spc="-1" strike="noStrike">
                <a:solidFill>
                  <a:srgbClr val="000000"/>
                </a:solidFill>
                <a:latin typeface="Arial"/>
              </a:rPr>
              <a:t>Percentuale di superficie forestale distrutta su quella originaria: Africa Orientale e Occidentale 72%, Asia Meridionale 63%, Africa Centrale 45%, Sud Est Asiatico 38%, America Latina 37%, Gran Bretagna 90%, Italia 70%, Mondo 42%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26"/>
              </a:spcBef>
              <a:spcAft>
                <a:spcPts val="10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(FA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2286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Principali conseguenze del riscaldamento glob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6000" y="1600200"/>
            <a:ext cx="853272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1) Cambiamento della temperatura media del pianeta (+0,4 - +0,8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2)  Scioglimento dei ghiacc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3) Precipitazioni e siccit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4) Circolazione atmosferica ed oceanic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5) Eventi metereologici estre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33520" y="60156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286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l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oblema maggio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he potrebbe derivare dallo scioglimento dei ghiacciai artici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n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è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’innalzamento del ma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m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la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riduzione della salinità ocean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2060640"/>
            <a:ext cx="838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a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fferenza di salinità tra le acque dell’Atlantico settentriona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 quell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ll’Atlantico centro meridiona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otrebbe causare una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laciazion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ran parte dell’emisfero n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280" y="4292640"/>
            <a:ext cx="868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l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meccanismo di funzionamento di tutte le correnti marin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, e più in generale della grande 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corrente marina global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, detta (“great ocean conveyor belt) di cui la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corrente del Golfo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fa parte integrante, si basa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sulle differenze tra la temperatura e la salinità dell’acqua marina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tra zone diverse del pianeta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52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e previsioni relative a cambiamenti futuri prevedono rischi per l’Europa e l’area Mediterran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700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1)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Rischi di alluvioni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, rischi di adeguate 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risorse idriche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, in particolare nel 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sud dell’Europa e nell’area mediterranea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9280" y="2852640"/>
            <a:ext cx="849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2) L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qualità dei suoli tenderà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a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deteriorarsi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in tutta l’Europa: nel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nord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per le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precipitazioni e alluvioni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, mentre nel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ud per perdita di nutrimenti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derivata dalla diminuzione delle precipitazioni e per i maggiori rischi di siccità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9417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3) 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L’aumento della temperatura media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e la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 crescita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della 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concentrazione di anidride carbonica in atmosfera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possono 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cambiare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gli equilibri degli 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ecosistemi naturali e con conseguenti modifiche del paesagg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2286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4) L’aumento di anidride carbonica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in atmosfera causerà un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aumento della produttività agricola nel nord e centro Europa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mentre </a:t>
            </a:r>
            <a:r>
              <a:rPr b="1" i="1" lang="en-US" sz="2400" spc="-1" strike="noStrike">
                <a:solidFill>
                  <a:srgbClr val="333399"/>
                </a:solidFill>
                <a:latin typeface="Comic Sans MS"/>
              </a:rPr>
              <a:t>nel sud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per la </a:t>
            </a:r>
            <a:r>
              <a:rPr b="1" i="1" lang="en-US" sz="2400" spc="-1" strike="noStrike">
                <a:solidFill>
                  <a:srgbClr val="333399"/>
                </a:solidFill>
                <a:latin typeface="Comic Sans MS"/>
              </a:rPr>
              <a:t>riduzione della disponibilità dell’acqua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e l’aumento della temperatura avranno effetti diver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24922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00"/>
                </a:solidFill>
                <a:latin typeface="Comic Sans MS"/>
              </a:rPr>
              <a:t>5) Il possibile </a:t>
            </a:r>
            <a:r>
              <a:rPr b="1" lang="it-IT" sz="2400" spc="-1" strike="noStrike">
                <a:solidFill>
                  <a:srgbClr val="006600"/>
                </a:solidFill>
                <a:latin typeface="Comic Sans MS"/>
              </a:rPr>
              <a:t>aumento dei fenomeni metereologici estremi</a:t>
            </a:r>
            <a:r>
              <a:rPr b="0" lang="it-IT" sz="2400" spc="-1" strike="noStrike">
                <a:solidFill>
                  <a:srgbClr val="006600"/>
                </a:solidFill>
                <a:latin typeface="Comic Sans MS"/>
              </a:rPr>
              <a:t> porterà </a:t>
            </a:r>
            <a:r>
              <a:rPr b="1" lang="it-IT" sz="2400" spc="-1" strike="noStrike">
                <a:solidFill>
                  <a:srgbClr val="006600"/>
                </a:solidFill>
                <a:latin typeface="Comic Sans MS"/>
              </a:rPr>
              <a:t>danni economici e sociali</a:t>
            </a:r>
            <a:r>
              <a:rPr b="0" lang="it-IT" sz="2400" spc="-1" strike="noStrike">
                <a:solidFill>
                  <a:srgbClr val="006600"/>
                </a:solidFill>
                <a:latin typeface="Comic Sans MS"/>
              </a:rPr>
              <a:t> sulle strutture e infrastrutture residenziali e produt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3933720"/>
            <a:ext cx="78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6)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aumento del livello del mere comporta maggiori rischi per le zone costiere del mediterran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76500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mic Sans MS"/>
              </a:rPr>
              <a:t>2005: il Protocollo di Kyoto entra in vig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429264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mic Sans MS"/>
              </a:rPr>
              <a:t>2008-2012,</a:t>
            </a:r>
            <a:r>
              <a:rPr b="0" lang="it-IT" sz="2400" spc="-1" strike="noStrike">
                <a:solidFill>
                  <a:srgbClr val="333399"/>
                </a:solidFill>
                <a:latin typeface="Comic Sans MS"/>
              </a:rPr>
              <a:t> “</a:t>
            </a:r>
            <a:r>
              <a:rPr b="1" lang="it-IT" sz="2400" spc="-1" strike="noStrike">
                <a:solidFill>
                  <a:srgbClr val="333399"/>
                </a:solidFill>
                <a:latin typeface="Comic Sans MS"/>
              </a:rPr>
              <a:t>primo periodo di impegno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” del Protocollo di Kyoto, nel quale le emissioni delle nazioni industrializzate nel loro insieme dovrà decrescere del 5% sotto i livelli del 199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333360"/>
            <a:ext cx="866448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La CO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 ed altri gas serra (CH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, N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O, O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) hanno la caratteristica di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</a:rPr>
              <a:t>lasciar penetrare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 la radiazione solare ad onda corta e di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</a:rPr>
              <a:t>trattenere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 parte di quella ad onda lunga riemessa dal suolo terrest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6324480"/>
            <a:ext cx="8123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26920" y="1967040"/>
            <a:ext cx="727416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3808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Il Protocollo di Kyoto distingue i Paesi in tre fasc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1752480"/>
            <a:ext cx="866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00"/>
                </a:solidFill>
                <a:latin typeface="Comic Sans MS"/>
              </a:rPr>
              <a:t>A) I paesi industrializzati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devono ridurre i gas serra del 5% rispetto al 199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228600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28195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) I Paesi in via di transizion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per i quali sono stati stabiliti parametri di emissioni pari a quelli misurati nel 19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44956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C) Paesi in via di svilupp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 cui è riconosciuto il diritto a seguire un proprio sviluppo, essi non sono soggetti a vicoli particolari e avranno maggiori margini di manov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8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057400" y="15228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meccanismi di flessibili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9079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Il Protocollo di Kyoto ha introdotto tre meccanismi a supporto delle iniziative intraprese a livello naziona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00000" y="19890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omic Sans MS"/>
              </a:rPr>
              <a:t>ET- Emission Trading</a:t>
            </a: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708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ente a un paese industrializzato di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ende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d un altro i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ritt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 eccess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he derivano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a una riduzione delle proprie emission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ltre la soglia sulla quale si è impegn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87280" y="443700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mic Sans MS"/>
              </a:rPr>
              <a:t>CDM- Clean Devolopment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53737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ese private possono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mplementare progett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i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iduzion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ell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missioni in Paesi in via di svilupp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al fine di raggiungere gli obiettivi di riduzione fiss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79280" y="69228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omic Sans MS"/>
              </a:rPr>
              <a:t>La logica che sta alla base di questi meccanismi è ch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9280" y="278136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emissioni di gas serra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no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un problema glob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9280" y="3860640"/>
            <a:ext cx="71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) “Dove”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ottien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’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mportanza rel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843280" y="0"/>
            <a:ext cx="411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’analisi econom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11350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L’entrata in vigore del Protocollo di Kyoto ha senso per il clima e per l’econo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2421000"/>
            <a:ext cx="861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a maggior parte dei Paesi per raggiungere il proprio obiettivo avranno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costi bassi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senza dover ricorrere ai tre meccanismi di Kyoto o ai “serbatoi di carbonio”(sin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393372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l mercato internazionale di carboni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revede costi di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iduzion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ell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missioni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 i 3 e i 20 dollari per t. di anidride carbon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0920" y="544500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er tutti i settor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rann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lli a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ggior intensità energetica,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uesta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ifr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aramente rappresenta oltre il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-5% dei co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04920" y="45720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’impatto sul  PIL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l’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conomi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ella maggior parte dei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aesi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dustrializzati occidentali nel 2010 sarà inferior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ll’1%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senza il commercio delle emission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177336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 il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mmercio delle emission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izzato all’interno dell’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C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l costo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cender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 meno dello 0,5%,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 nei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singoli Paesi scenderà tra lo 0,1% e l’1,1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321300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sta cifra rappresenta una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“perdit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” annual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el PI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revisto per il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2010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e varia tra lo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0,1 e 0,01 %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4221000"/>
            <a:ext cx="85341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nfine, con il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commercio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delle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emissioni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la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perdita del PIL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nei paesi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OCS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si troverebbe al di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sotto dello 0,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Ma ci si guadagna pure: risparmi di energia, meno costo d’inquinamento, innovazione tecnologico ec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9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77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3" dur="770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5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7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1249200"/>
            <a:ext cx="8229600" cy="5059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  <a:effectLst>
            <a:outerShdw dist="190440" dir="5400000" blurRad="0" rotWithShape="0">
              <a:srgbClr val="80808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6600"/>
                </a:solidFill>
                <a:latin typeface="Arial"/>
              </a:rPr>
              <a:t>L’effetto serra ci costringe a porci una domanda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6600"/>
                </a:solidFill>
                <a:latin typeface="Arial"/>
              </a:rPr>
              <a:t>FINO A CHE PUN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800" spc="-1" strike="noStrike">
                <a:solidFill>
                  <a:srgbClr val="006600"/>
                </a:solidFill>
                <a:latin typeface="Arial"/>
              </a:rPr>
              <a:t>la natura sara’ in grado di sostenere il nostro stile di vita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000"/>
                            </p:stCondLst>
                            <p:childTnLst>
                              <p:par>
                                <p:cTn id="301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Arial"/>
              </a:rPr>
              <a:t>L’ecosostenibilit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Un’attività sostenibile è quella che in un dato tempo preleva un quantitativo di risorse rinnovabili (vegetali, animali ecc.) pari o minore di quello che la natura è capace di riprodurre nello stesso tempo e che immette nell’ambiente un quantitativo di rifiuti (solidi, liquidi e gassosi) pari o minore di quello che la natura è capace di depura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24000" y="105228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L’IMPRONTA ECOLOGICA E’ L’ESTENSIONE DI ECOSISTEMI NECESSARI PER PRODURRE LE RISORSE CHE SI CONSUMANO E PER DEGRADARE I RIFIUTI CHE SI PRODUCO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4343400"/>
            <a:ext cx="76212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5157720"/>
            <a:ext cx="835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ogni nostra azione quotidiana corrisponde ad un piccolo consumo di territo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Ogni cosa ha la sua impro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333399"/>
                </a:solidFill>
                <a:latin typeface="Arial"/>
              </a:rPr>
              <a:t>1 Kg di pane richiede 9,7 m</a:t>
            </a:r>
            <a:r>
              <a:rPr b="1" lang="it-IT" sz="30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333399"/>
                </a:solidFill>
                <a:latin typeface="Arial"/>
              </a:rPr>
              <a:t>1 Kg di carne bovina richiede 140 m</a:t>
            </a:r>
            <a:r>
              <a:rPr b="1" lang="it-IT" sz="30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333399"/>
                </a:solidFill>
                <a:latin typeface="Arial"/>
              </a:rPr>
              <a:t>1 Kg di vegetali o legumi richiedono 2,6 m</a:t>
            </a:r>
            <a:r>
              <a:rPr b="1" lang="it-IT" sz="30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333399"/>
                </a:solidFill>
                <a:latin typeface="Arial"/>
              </a:rPr>
              <a:t>5 Km percorsi per ogni giorno lavorativo comportano una necessità </a:t>
            </a:r>
            <a:r>
              <a:rPr b="1" lang="it-IT" sz="3000" spc="-1" strike="noStrike" u="sng">
                <a:solidFill>
                  <a:srgbClr val="333399"/>
                </a:solidFill>
                <a:uFillTx/>
                <a:latin typeface="Arial"/>
              </a:rPr>
              <a:t>annuale</a:t>
            </a:r>
            <a:r>
              <a:rPr b="1" lang="it-IT" sz="3000" spc="-1" strike="noStrike">
                <a:solidFill>
                  <a:srgbClr val="333399"/>
                </a:solidFill>
                <a:latin typeface="Arial"/>
              </a:rPr>
              <a:t> di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i="1" lang="it-IT" sz="3000" spc="-1" strike="noStrike">
                <a:solidFill>
                  <a:srgbClr val="333399"/>
                </a:solidFill>
                <a:latin typeface="Arial"/>
              </a:rPr>
              <a:t>122 m</a:t>
            </a:r>
            <a:r>
              <a:rPr b="1" lang="it-IT" sz="30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i="1" lang="it-IT" sz="3000" spc="-1" strike="noStrike">
                <a:solidFill>
                  <a:srgbClr val="333399"/>
                </a:solidFill>
                <a:latin typeface="Arial"/>
              </a:rPr>
              <a:t> se percorsi in biciclet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i="1" lang="it-IT" sz="3000" spc="-1" strike="noStrike">
                <a:solidFill>
                  <a:srgbClr val="333399"/>
                </a:solidFill>
                <a:latin typeface="Arial"/>
              </a:rPr>
              <a:t>303 m</a:t>
            </a:r>
            <a:r>
              <a:rPr b="1" lang="it-IT" sz="30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i="1" lang="it-IT" sz="3000" spc="-1" strike="noStrike">
                <a:solidFill>
                  <a:srgbClr val="333399"/>
                </a:solidFill>
                <a:latin typeface="Arial"/>
              </a:rPr>
              <a:t> se in autob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i="1" lang="it-IT" sz="3000" spc="-1" strike="noStrike">
                <a:solidFill>
                  <a:srgbClr val="333399"/>
                </a:solidFill>
                <a:latin typeface="Arial"/>
              </a:rPr>
              <a:t>1.530 m</a:t>
            </a:r>
            <a:r>
              <a:rPr b="1" lang="it-IT" sz="30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i="1" lang="it-IT" sz="3000" spc="-1" strike="noStrike">
                <a:solidFill>
                  <a:srgbClr val="333399"/>
                </a:solidFill>
                <a:latin typeface="Arial"/>
              </a:rPr>
              <a:t> se si usa l’automobile</a:t>
            </a:r>
            <a:r>
              <a:rPr b="1" lang="it-IT" sz="3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24000" y="436572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ogni abitante della Terra dispone solo di 2,1 ettari.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4000" y="333360"/>
            <a:ext cx="799308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L’impronta ecologica dell’umanit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ogni abitante della Terra in media consuma risorse e produce rifiuti pari alla capacità produttiva e depurativa di 2,7 ettar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Arial"/>
              </a:rPr>
              <a:t>Chi sta spezzando la schiena al nostro pianeta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l’impronta ecologica pro capite di alcuni paes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USA              12,2 etta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Germania       6,3 etta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landa           6.0 etta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talia               5,5 etta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ina               1,4 etta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ndia               1,0 etta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ritrea            0,3 etta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9152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Kg di petrolio consumati giornalmente pro capite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2636640"/>
            <a:ext cx="822960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Arial"/>
              </a:rPr>
              <a:t>Unione Europea 4,7 kg/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Arial"/>
              </a:rPr>
              <a:t>Terzo Mondo      0,8 kg/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e gli abitanti del Terzo Mondo avessero i nostri stessi consumi di petrolio in 7-8 anni si esaurirebbero tutti i giacimenti esist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162000" rIns="198000" tIns="180000" bIns="180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osa ci insegna l’ecolog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353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La Terra è un sistema finito, con risorse e capacità di depurazione e di adattamento limit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n natura tutto è collegato, ogni elemento è in relazione e dipende da alt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La natura funziona a ciclo chiuso di ma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vegetali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erbivori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carniv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decomposit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L’energia si degr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l massimo è nemico del megl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La complessità e garanzia di stabili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940000" y="4005360"/>
            <a:ext cx="2890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95640" y="3933720"/>
            <a:ext cx="217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56000" y="4005360"/>
            <a:ext cx="863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35280" y="4076640"/>
            <a:ext cx="2374920" cy="852480"/>
          </a:xfrm>
          <a:custGeom>
            <a:avLst/>
            <a:gdLst/>
            <a:ahLst/>
            <a:rect l="l" t="t" r="r" b="b"/>
            <a:pathLst>
              <a:path w="1496" h="537">
                <a:moveTo>
                  <a:pt x="1496" y="363"/>
                </a:moveTo>
                <a:cubicBezTo>
                  <a:pt x="1398" y="423"/>
                  <a:pt x="1300" y="484"/>
                  <a:pt x="1088" y="499"/>
                </a:cubicBezTo>
                <a:cubicBezTo>
                  <a:pt x="876" y="514"/>
                  <a:pt x="407" y="537"/>
                  <a:pt x="226" y="454"/>
                </a:cubicBezTo>
                <a:cubicBezTo>
                  <a:pt x="45" y="371"/>
                  <a:pt x="38" y="76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1835280" y="4076640"/>
            <a:ext cx="71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Economia in contraddizione con l’ecolog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rescita illimitata di merci e consu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iclo aperto di ma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risorse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→ produzione → consumo → rifiu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Ignora il secondo principio della termodinam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Il meglio è il massi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Standardizzare prodotti e produzio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end in crescita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viluppo esponenziale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36450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... o una seg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Segavano i rami sui quali erano seduti e si scambiavano a gran voce le loro esperienze di come segare più in fretta, e precipitarono con uno schianto, e quelli che li videro scossero la testa segando e continuando a segare”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B. Bre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124000" y="1268280"/>
          <a:ext cx="4932360" cy="23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268280"/>
                    <a:ext cx="4932360" cy="23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he fa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E’ necessario un cambiament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el nostro sistema economico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nonch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ei nostri stili di vi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7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0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3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6" dur="2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Documento dei vescovi europe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olitic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- mettere nell’agenda pubblica il tema della sostenibilità (delle strutture economiche e degli stili di vi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- abbandonare gli attuali modelli produttivi e di consu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ai singoli cittadini: stili di vita sobri e sostenibi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Non mancano “ricette” per migliorare la situaz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Arial"/>
              </a:rPr>
              <a:t>L’economia dello stato stazionario (H. Da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Arial"/>
              </a:rPr>
              <a:t>La bioeconomia (N. Georgescu-Roeg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Arial"/>
              </a:rPr>
              <a:t>L’ecomarxismo (Gorz, ‘O Connor, Azn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Arial"/>
              </a:rPr>
              <a:t>Il neomarginalismo (Pigou, Ruffolo,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Arial"/>
              </a:rPr>
              <a:t>L’ambientalismo scientifico neotecnico (Lovins, Common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osa ciascuno di noi può fare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ff"/>
                </a:solidFill>
                <a:latin typeface="Arial"/>
              </a:rPr>
              <a:t>diffondere queste conoscenze ad amici, parenti, collegh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ff"/>
                </a:solidFill>
                <a:latin typeface="Arial"/>
              </a:rPr>
              <a:t>sostenere le organizzazioni che si battono per una società più gius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ff"/>
                </a:solidFill>
                <a:latin typeface="Arial"/>
              </a:rPr>
              <a:t>non farsi prendere dall’ideologia del “produrre sempre di più, consumare sempre di più”, “più si ha è più si è felici”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ff"/>
                </a:solidFill>
                <a:latin typeface="Arial"/>
              </a:rPr>
              <a:t>rendere la propria impronta ecologica più ecosostenibile: usare meno l’automobile; cambiare le lampadine con lampade a basso consumo; abolire o limitare al minimo i prodotti “usa e getta”; comprare la verdura solo se è di stagione; acquistare preferibilmente i prodotti che provengono dalla propria regi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ff"/>
                </a:solidFill>
                <a:latin typeface="Arial"/>
              </a:rPr>
              <a:t>mangiare meno prodotti di origine animale; comprare i prodotti biologici e quelli del commercio equo e solidale; riciclare il più possibile i rifiuti; ec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ff"/>
                </a:solidFill>
                <a:latin typeface="Arial"/>
              </a:rPr>
              <a:t>Interessarsi di politica facendo sentire la propria voce contro le ingiustizie e per una società più sostenibi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Dobbiamo interessarci molto di pi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delle cose che conta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che di quelle che si possono cont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(N Georgescu-Roeg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836640"/>
            <a:ext cx="8218440" cy="56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L’alterazione dell’atmosfera, dovuto alle attività umane, è in corso da oltre due secoli, da quando la rivoluzione industriale ha avviato su larga scala l’uso dei combustibili fossili e accelerato il processo di deforestazione e gli altri cambiamenti nell’uso della ter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Tra il 1765 (inizio dell'era industriale) e il 1990, l'81% delle emissioni  di  anidride carbonica sono  state causate dai soli Paesi industrializzati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77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770" fill="hold"/>
                                        <p:tgtEl>
                                          <p:spTgt spid="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" dur="77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" dur="77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903240"/>
            <a:ext cx="9144000" cy="59547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L’aumento dei gas serra per opera dell’uo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315200" cy="5033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58880" y="196920"/>
            <a:ext cx="788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Concentrazione di CO2 misurata in atmosfe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Mauna loa (Hawa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 rot="10800000">
            <a:off x="533520" y="8229600"/>
            <a:ext cx="807696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Temperatura globale al suo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7696080" cy="62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1989000"/>
            <a:ext cx="861048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La maggiore responsabilità è da attribuire a tre attività uman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L’impiego di combustibili fossi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La deforestazione che modifica la destinazione ecologica di vasti territ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Il cambiamento nell’uso dei suo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ontributo percentuale di vari paesi alle emissioni di anidiride carbonica (CO2): USA 23%, Cina 14%, Russia 6%, Giappone 5%, India 4%, Germania 3%, Canada 2%, Gran Bretagna 2%, Italia 2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Earth Policy Institute from U.S. Department of Energ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0T14:09:14Z</dcterms:created>
  <dc:creator>pio russo krauss</dc:creator>
  <dc:description/>
  <dc:language>en-US</dc:language>
  <cp:lastModifiedBy>PIO RUSSO KRAUSS</cp:lastModifiedBy>
  <dcterms:modified xsi:type="dcterms:W3CDTF">2009-11-24T17:55:24Z</dcterms:modified>
  <cp:revision>18</cp:revision>
  <dc:subject/>
  <dc:title>Diapositiva 1</dc:title>
</cp:coreProperties>
</file>